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E68D-BA53-4BAB-86ED-6F5B1E0E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A4C9-0541-45FB-906E-35D102A1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50CC4-A396-497B-8EA4-A01D5318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6DCB1-A672-46FA-BF50-FE61EFCF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372D8-8356-44E1-9E22-9C916513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0A1BC-0E36-4A70-AC05-D19A426C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207C0-CFEE-4B36-902D-A5D7C118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C42ED-CB18-4F0C-9772-630E7AF7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26F7E-6726-4347-9669-1A58D8D9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8E103-4E38-4FC1-AB2F-F9A263D2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971E0-CE98-418F-A8C6-6F973027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E8BFD-00BC-47F7-81E5-384292E5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C8C9-C6B1-4756-B8DB-3D52DE62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F20ED-CF5F-40A1-8717-2308E51D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A575A-C3B6-41F8-903C-80F17404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72C92-5732-42EA-B9D2-65D7EF78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D80F3-EC29-48DF-AB6A-1CE4D90B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C0FEF-5452-48AF-9439-171E16D7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1226B-7EED-466A-9038-A3D1EBE2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09E27-7817-494D-9282-206E0466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71D3D-121D-46ED-AF0E-6966AA12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E91D3-187C-4D52-8E65-8E954BF3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FA715-57A2-4291-B279-676D6C2A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A820-EBAA-4960-9607-F45720E4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21596-6E04-4F01-A75C-39BB6DA9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AF084-4A65-43B5-8F6B-8A53415F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E72C7-345D-45ED-9385-4625BEB3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18293-E981-4DBF-9072-451E5FE7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A968E-121E-43F1-BB7A-C904A8DF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891E5-5644-4A17-A855-6ABB6F9D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B0472-3F44-4B19-AB7D-65F612BC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538EB-38E2-4770-87EC-BE7A3474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60B45-D5AC-4350-B846-DBB8EAFA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304A7-84F0-4E69-9A09-970D0FE2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8B18-5F9B-4A8C-9815-D4069D74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68116-55E9-4A87-A434-F7FB70A8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FBA0C-6008-4652-A252-28A6CC6C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EC74B-E6C3-4CD8-9EBB-BCE54089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D9917-4E0C-42B0-8FD3-CD73D454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59098-572C-4980-905B-7BAAC87B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DC93E-FC57-46A3-97A2-50935A16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3141B-1FAF-4566-84E3-873E4491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155BE-67A8-4527-BFC7-EE6DEFC1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28BA3-BCA0-4B57-A77C-F7DE38E8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CB173-AABD-4D62-9B6D-1AD2677F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1477-440C-44D6-BA5D-65D5EE80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0D963-7A3A-4B77-8DFF-2F3879B7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E8AEA-896B-403F-BC35-34A911B1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7B4DB-3288-417E-BAE5-38013706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155DE-86AD-4010-A386-4162254B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D2CA5-266F-4527-B657-4A5F530D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529FB0-88F3-4545-8F63-64F4DD50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9D0E75-3A1F-4DB7-BEF1-BAD03C65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94AC5E-898B-4B04-97A7-E2964F83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63384C-8DDD-4AF1-95EB-40BABCB8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283578-4D5E-4708-81D9-C5569A64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A7A2-FA6F-4E89-BA4F-4FBEDB68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A6FFF2-7FC2-426E-A17A-3629A1D0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743002-FDA6-44E0-8D4A-C0687667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E0DD47-EC2E-4CED-BFBC-0DB723EF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3671D-8785-4E4B-B264-9B8CDA52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0C374E-400B-4D72-B845-4F61FEC4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EEEA07-170E-4040-9B3B-68550BFE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70DB1-225F-435C-8644-A6DB6FA5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BB91D6-E99C-4BE5-ABE6-CA17F362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7F0E96-9A55-4D0D-A5FA-808AEB7E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10CC81-7BA5-4EED-AC64-7E471BF9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C1F8-0C6D-4EE0-8197-3D107CAA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CD46CD-682D-436B-8BEC-B1844FEC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068C26-8DBB-43B3-BFAD-BD80EED5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8EA602-4D02-4B20-A6B9-32506C85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23177E-9BF6-4CF5-97FC-2C273CAF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26092E-F7E0-4CD2-9442-8293DE6B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72AD4-862E-4833-8788-3211627D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F97E53-1C20-4477-B37B-39001586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73A806-D8F2-4593-93D7-17EF6E0B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BF04AB-10E6-4BC3-B813-3C845DB0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6E45-6C78-4984-AA83-DA233B4A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924C-4D13-4EA6-A3B6-3CB7D80B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F04C-3C93-4AA5-AFF7-9D1927C3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B174-0885-4BBE-8975-00ACFC4E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5958-61C7-4700-BD75-3E80F5AD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3EBD-E8CC-404D-9FA4-4CE7291E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0E33-B2F1-4167-9D66-96B3DA06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CDD6-2570-4783-B2A7-001A91C6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EA06-9A1F-459D-AF15-D9FF5607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67AED-E970-49B5-88D5-2A3C0844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79E9A-5C70-4857-B739-F6E5A531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23603-3566-4171-BA7B-D67A26BA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7BF23-CBCC-4B4D-B4B5-C37A802F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175FC-1217-423F-AB24-74CD7F53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D62-1762-48F7-8CB0-10CB0CEE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DCCA9-AA68-4157-A4E8-F20D1843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3C758-3AE8-4667-93F3-F8F8FC3C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1D0E3-BAAA-491F-8DF8-132F5FE7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40622-344E-4B6A-AB6B-B1DB20C4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E5DE9-8CB2-4AB7-BAD3-0EC0B402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409AD-61FA-46F6-8F4A-63CF8C25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45EFF-644C-4CC7-BED9-97F05F87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1259A-8A63-4146-8126-C894D86B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CE616-6CC3-471E-8C38-A9B90584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135A7-453E-4BE5-B76F-5D055762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80F8-B137-4B16-89F8-B91EC781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EF12A-741D-4255-B3C4-080175ED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0B94D-C8E2-4514-9323-29A7658F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8F2A2-237E-4122-B32C-7DA02C07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DB5AD-87B6-497E-B3F0-934D05C8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598E1-1F72-4A5E-8868-B0B6FD7A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0FC80-3E02-4302-B169-544D6595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F437D-8D42-4609-B750-79A9F1DD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B20F9-A56C-4E63-925B-566D34EF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240F0-1DE2-4395-B2B2-26D6F0B3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E7FB39-6B95-4B63-96F7-499BF585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222-44F1-4745-94B0-EDFD5745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9CFB0-0817-434B-A34C-D3C1C5FE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3EEEF8-31EF-46AB-8A2B-123DF054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B61906-B38E-4924-8A32-1A270B1B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FA82B7-0357-40E6-A87B-1BCE42C7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C3AB75-3CDD-4D5B-8859-DFE4BB3E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88FA3F-25EA-408F-AF7E-328D97B2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282C2A-FB40-43CB-A125-5F8EC0CF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5F0E96-52F4-4947-A716-D070D1E8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312955-9A77-4E8E-8972-E44B740D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F0D457-611F-4777-AC13-C185E24A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00E4-6C59-4544-85E0-EC72DADE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DBC5AC-0806-4D3B-B3BC-E185EF23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B05FF-685A-4ED7-996F-6437E307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6F33B-1A0D-4F2D-8B78-E9C9E739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808D6-41D0-482F-BABA-BA953956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9621F-4929-48E2-8E7F-144663DA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1D347-C0D8-4872-A40C-EF8F7E70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26DE0-395E-4FB4-B04F-D3486826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01D2E-DC24-447C-901B-637B1F39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8DC5A-D7DF-4A43-802A-E39B9BAC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D64CF-2EB7-426A-A902-5230C56C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E27C-8AD3-4CE2-84B6-944B4713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32156-FFC3-4C50-88CA-EE907E2B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DA0F7-1EE3-4943-9048-DBD72436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0CC63-2A71-4BE5-BD97-C821C2CB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F4723-1D37-4C1B-AAD8-32281C35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95348-0963-4F41-A8B1-00DDA47F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1C864-5F72-47EF-A8BC-ACA710DA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65A79-8D03-40A9-9DEE-2BC00F43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9B300-AF7A-4429-B71D-B06DC302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C444F-2840-415D-A34B-E8FA06FE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27299-1525-4149-98B5-A6E55180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60C0-31EB-4650-8E59-C396476E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B90A0-6760-42E3-BFAD-E39077C3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77B1E-36C3-4410-A8BC-FD54AFA9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D1F10-33DD-4A28-A38B-EF403381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170C5-DA8F-40EF-A2E8-D7F65197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81A68-7B29-4323-A713-F9EB035B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72316-6049-4895-975E-648238E1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8BE4E-5C6C-457C-B39F-CE88886A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FA7FD-CE37-41D5-B257-D9008DCE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2934B-3581-4D5D-AC10-CCCD66AA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BC431-BFFD-4AD6-A821-52730DCF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3F1D-62CC-4513-9B48-D4004BC9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DA77E-92B5-491B-ABBB-F76C15F2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CA153-1E24-425C-B770-3F7DB276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855ED-F9F7-47D3-BE55-121DD5ED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84A62-1D03-4FF1-A26C-221870BA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C952F-2EC2-45CE-AFD7-CA20E52C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BEA48-27D6-40CC-B425-E39098AC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99AA9-0F4F-4ECA-925E-89B3E087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11C16-54AF-4A75-954D-CF3C3798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C687F-71A6-442D-87A4-77A5C217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12A87-BBF2-45C3-8E51-29173B03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A8E3-AE57-4258-BB2A-1C5129084BB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659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660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7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674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678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682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686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690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6D50-C582-46B7-94F2-3A44597B0D7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74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74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4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4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75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75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75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76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76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7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7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7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78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78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78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79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79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79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80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80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81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81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2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2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83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83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83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84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84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85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5185-AF6E-4CB1-BEC4-81DB84E0C8A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91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91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92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92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2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92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92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3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3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3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3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4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4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94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5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5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5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6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6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6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6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97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97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97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98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98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98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9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99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99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99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00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00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00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01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01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01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1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2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2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02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02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03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3611-CD5C-4951-8137-F8719858225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B2C3-0780-4EC7-8981-EE3AD909A6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538A-7ECB-4C1C-8955-6999CAF398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E8EF-4E8E-4F98-B897-9D7EF4BB141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4E0C-487B-4EF9-859B-3C9888790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176F-07CA-4B61-8F16-392291630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A437-55F3-46D7-BC95-8EC9D34100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27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F315-3CDB-4051-97FE-8C5DBE9BBE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3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8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8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8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9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2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7E8A-8171-4EEF-9DAF-7064A78636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8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8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9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0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0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2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6975-2FB7-4097-9540-ABA63DDA85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575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577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582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88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1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2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596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00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4C95-D9D8-4299-8FC9-F12198714D7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tributul advervial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rin ce se exprima atributul adverbial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Atributul adverbial este exprimat pr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Adverb de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Adverb de ti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Adverb de m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Atributul adverbial raspunde la intreba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rea </a:t>
            </a: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c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tributul adverbial de lo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ributul adverbial de loc exprima locul unde se petreceo actiune sau exista o stare.Exempl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a suparat de galagia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 afa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tributul adverbial de timp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tributul adverbial de timp exprima timpul in care se savarseste o actiune sau exista o stare.Exemplu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sa erau iernile </a:t>
            </a:r>
            <a:r>
              <a:rPr b="0" i="1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de altadat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Comic Sans MS"/>
              </a:rPr>
              <a:t>Atributul adverbial de mod arata felul desfasurarii actiunii, al existentei starii sau al posedarii insusirii.Exemplu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Comic Sans MS"/>
              </a:rPr>
              <a:t>Era </a:t>
            </a:r>
            <a:r>
              <a:rPr b="1" i="1" lang="en-US" sz="3000" spc="-1" strike="noStrike" u="sng">
                <a:solidFill>
                  <a:srgbClr val="660066"/>
                </a:solidFill>
                <a:uFillTx/>
                <a:latin typeface="Comic Sans MS"/>
              </a:rPr>
              <a:t>mai suparat</a:t>
            </a:r>
            <a:r>
              <a:rPr b="1" lang="en-US" sz="3000" spc="-1" strike="noStrike">
                <a:solidFill>
                  <a:srgbClr val="660066"/>
                </a:solidFill>
                <a:latin typeface="Comic Sans MS"/>
              </a:rPr>
              <a:t> ca data trecurt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Verdana"/>
              </a:rPr>
              <a:t>Atributul adverbial de m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 txBox="1"/>
          <p:nvPr/>
        </p:nvSpPr>
        <p:spPr>
          <a:xfrm>
            <a:off x="2268360" y="189000"/>
            <a:ext cx="5172120" cy="134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"/>
              </a:rPr>
              <a:t>Observatii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erlin Sans FB"/>
              <a:ea typeface="Berlin Sans FB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11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Atributul adverbial: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Verdana"/>
              </a:rPr>
              <a:t>Sta intotdeauna dupa cuvantul determinat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Verdana"/>
              </a:rPr>
              <a:t>Este insotit de obicei de prepozitii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Verdana"/>
              </a:rPr>
              <a:t>Nu se desparte prin virgula de substantivul determina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78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78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838080" y="1197000"/>
            <a:ext cx="76932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Arial Black"/>
              </a:rPr>
              <a:t>Acest proiect a fost realizat de eleva Miron Daniela din cls V-a B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3:02Z</dcterms:created>
  <dc:creator>user</dc:creator>
  <dc:description/>
  <dc:language>en-US</dc:language>
  <cp:lastModifiedBy>user</cp:lastModifiedBy>
  <dcterms:modified xsi:type="dcterms:W3CDTF">2011-05-11T18:28:34Z</dcterms:modified>
  <cp:revision>2</cp:revision>
  <dc:subject/>
  <dc:title>Atributul advervial</dc:title>
</cp:coreProperties>
</file>